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EB1-3434-4188-94AA-E6B7E871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526-1CAC-4574-9CFD-72D1A15D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609-A580-4A38-8EAD-20EE7F24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A1B-5529-4CB3-BCB4-21E34D2D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BF8-F5C2-4E4A-A56B-3226C365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919-4EBA-494F-B9F8-EA58B61B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1B0-FC88-4CC4-BC3B-7A1FD8CE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501-A04E-4764-BBF9-89472DFE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766-6940-4217-9A68-CB66E105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0DCA-4222-4C85-9CD7-C834418A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555-547C-4856-9ADC-B01378C1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036-31EA-4BDB-AC46-7A306E14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707B-020E-4140-AD06-FB57231D7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 rot="20738400">
            <a:off x="2634480" y="1557000"/>
            <a:ext cx="6095880" cy="23558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A Telecollaborative Project is an activity where students share information with another person or group using the Inter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1292400" y="-347760"/>
            <a:ext cx="8699400" cy="2725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52280" y="2895480"/>
            <a:ext cx="701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a2c7"/>
                </a:solidFill>
                <a:latin typeface="Calibri"/>
              </a:rPr>
              <a:t>Exampl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a2c7"/>
                </a:solidFill>
                <a:latin typeface="Calibri"/>
              </a:rPr>
              <a:t>include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a2c7"/>
                </a:solidFill>
                <a:latin typeface="Calibri"/>
              </a:rPr>
              <a:t>Writing to an eP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a2c7"/>
                </a:solidFill>
                <a:latin typeface="Calibri"/>
              </a:rPr>
              <a:t>Taking a virtual fieldtri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a2c7"/>
                </a:solidFill>
                <a:latin typeface="Calibri"/>
              </a:rPr>
              <a:t>Videoconferenc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Documents and Settings\047ortegan\Local Settings\Temporary Internet Files\Content.IE5\9LKWVVFU\MCj02380700000[1].wmf"/>
          <p:cNvPicPr/>
          <p:nvPr/>
        </p:nvPicPr>
        <p:blipFill>
          <a:blip r:embed="rId2"/>
          <a:stretch/>
        </p:blipFill>
        <p:spPr>
          <a:xfrm>
            <a:off x="6553080" y="4267080"/>
            <a:ext cx="2078280" cy="21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047ortegan\Local Settings\Temporary Internet Files\Content.IE5\9LKWVVFU\MCj03010880000[1].wmf"/>
          <p:cNvPicPr/>
          <p:nvPr/>
        </p:nvPicPr>
        <p:blipFill>
          <a:blip r:embed="rId3"/>
          <a:stretch/>
        </p:blipFill>
        <p:spPr>
          <a:xfrm>
            <a:off x="268200" y="324000"/>
            <a:ext cx="166392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20:53:49Z</dcterms:created>
  <dc:creator>RRISD</dc:creator>
  <dc:description/>
  <dc:language>en-US</dc:language>
  <cp:lastModifiedBy>RRISD</cp:lastModifiedBy>
  <dcterms:modified xsi:type="dcterms:W3CDTF">2009-03-13T21:34:11Z</dcterms:modified>
  <cp:revision>4</cp:revision>
  <dc:subject/>
  <dc:title>Telecollaborative Project</dc:title>
</cp:coreProperties>
</file>